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7F4-6464-4909-980F-0C6860F8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DB0-F183-4473-AAF4-2ECA987D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92C-F5E3-4E11-B204-F6A31811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4C2-ADC4-4E7E-A7FE-5476D454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7204-1C35-4D78-823A-5A441703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7CA8-69AC-45A3-9FB2-4B43E4C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6156-F3F4-4822-91A0-C8F41976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C7D4-2C1F-4D64-8B1F-8B2C9C3F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0851-D302-4F4B-B35E-B3658107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D2DD-4A2C-4E75-9606-B924321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4D14-5FEC-4A94-9923-BBBB365B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B1A-13CE-40B4-902D-A1C4BB4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BDC2-5113-4881-87E3-BF9DAF66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7D37-E3E8-49D2-A63A-FD230109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41E9-D12B-4E4D-A973-2A6E7F5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D899-4F1E-4503-9079-E7C17B05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8125-5F10-44EA-841A-3CF04693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FFF-21CA-46E7-8D40-45D0FB2A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CE9-E816-4202-83B7-50F095DA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8DA-A0F8-4F41-B219-6F70A147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958-4BDF-43B4-A87B-4CDB12A1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888-9121-435D-A0C6-4E7A4552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3F7-7B74-49B3-84A4-7F43C2E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794-61AF-4423-BE4B-8A9402A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C0EF-9C53-48AA-8F80-457E082A05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E57A-4AF5-41E6-BDF2-751AB87C1D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第十三章  货币一体化理论与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ories of Currency Are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 European Monetary Inte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最适货币区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蒙代尔与最适货币区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两种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一货币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多种货币并存并通过固定汇率机制连接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两种货币区的调节机制比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单一货币区内外均衡调节机制较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区内要素自由流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对外实行浮动汇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治变革、主权让渡与政治同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传统分析法（最适货币区条件论）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最适货币区条件主要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生产要素的流动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开放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多样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相近的通货膨胀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策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成本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收益分析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加入货币区，有成本，也有收益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消除投机资本区内流动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节约外汇储备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推动经济政策一体化和经济一体化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政治收益：提高国际协议地位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丧失货币政策自主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财政政策自主性受到限制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增大失业增加的可能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打破原有的国内均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共同货币政策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共同货币单位与货币篮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共同货币政策条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单一货币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分析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欧洲货币体系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主要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单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浮动的汇率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合作基金和信贷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成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汇率最稳定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加强成员国在国际金融体系中地位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共同发展与政策协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为单一货币奠定基础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欧洲货币联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欧洲货币联盟的产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马斯特里赫特条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单一货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欧洲单一货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欧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1:12:03Z</dcterms:created>
  <dc:creator>MS User</dc:creator>
  <dc:description/>
  <dc:language>en-US</dc:language>
  <cp:lastModifiedBy>Dell</cp:lastModifiedBy>
  <dcterms:modified xsi:type="dcterms:W3CDTF">2021-08-23T22:50:40Z</dcterms:modified>
  <cp:revision>13</cp:revision>
  <dc:subject/>
  <dc:title>第八章  货币一体化理论与欧洲货币一体化</dc:title>
</cp:coreProperties>
</file>